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E1C-43AE-4C12-BB1F-469CAF29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AF6-70D2-44DE-91D6-5037D8A0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9F1-2BA4-427E-8062-01E80C5C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896-699F-499E-A90B-0D29A9C4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782-402B-458B-887B-AB5F56F7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94F-3790-43BD-9AE0-2B633F9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131-5103-4FFE-AC3D-AB9506F8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A4F-E3B9-43E1-9246-49C79FE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7B3-E3AB-4690-95F5-57DD84D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040-331E-4B20-9E22-4249918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E1C-F4AA-45AE-BF42-90FB992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EA9-09A2-4F09-83CE-DBF41A6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E4F-7EEA-4BCA-AAFC-52B466CC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Fossils and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. Witherspo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eologist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ernbank Science Center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Kalb Count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28600" y="3657600"/>
            <a:ext cx="8839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B5. Students will evaluate the role of natural selection in the development of the theory of evolu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xplain the history of life in terms of biodiversity, ancestry, and the rates of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Explain how fossil and biochemical evidence support the the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QuestionsSheet"/>
          <p:cNvPicPr/>
          <p:nvPr/>
        </p:nvPicPr>
        <p:blipFill>
          <a:blip r:embed="rId1"/>
          <a:stretch/>
        </p:blipFill>
        <p:spPr>
          <a:xfrm>
            <a:off x="152280" y="304920"/>
            <a:ext cx="7448760" cy="3562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2280" y="58680"/>
            <a:ext cx="7696440" cy="703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1593720" y="1219320"/>
            <a:ext cx="22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ycoydodon culbert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00200" y="1523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ogene to Neo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599120" y="190512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Mamm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600200" y="2209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ssic to Quater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07320" y="2286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Wither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658680" y="22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625400" y="838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174040" y="289548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ogene to Quater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D33Merycoydodon"/>
          <p:cNvPicPr/>
          <p:nvPr/>
        </p:nvPicPr>
        <p:blipFill>
          <a:blip r:embed="rId3"/>
          <a:stretch/>
        </p:blipFill>
        <p:spPr>
          <a:xfrm>
            <a:off x="4114800" y="1219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TreeUpperRight"/>
          <p:cNvPicPr/>
          <p:nvPr/>
        </p:nvPicPr>
        <p:blipFill>
          <a:blip r:embed="rId4"/>
          <a:stretch/>
        </p:blipFill>
        <p:spPr>
          <a:xfrm>
            <a:off x="4932360" y="609480"/>
            <a:ext cx="4211640" cy="50292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8" name="Line 17"/>
          <p:cNvSpPr/>
          <p:nvPr/>
        </p:nvSpPr>
        <p:spPr>
          <a:xfrm>
            <a:off x="7315200" y="9907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5715000" y="5257800"/>
            <a:ext cx="30492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2209680" y="34290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7586640" y="56088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QuestionsSheet"/>
          <p:cNvPicPr/>
          <p:nvPr/>
        </p:nvPicPr>
        <p:blipFill>
          <a:blip r:embed="rId1"/>
          <a:stretch/>
        </p:blipFill>
        <p:spPr>
          <a:xfrm>
            <a:off x="152280" y="304920"/>
            <a:ext cx="7448760" cy="356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58680"/>
            <a:ext cx="7696440" cy="70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600200" y="116856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ycoydodon culbert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600200" y="15238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ogene to Neo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599120" y="190512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Mamm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596240" y="22096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ssic to Neo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7320" y="2286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Wither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658680" y="22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25400" y="838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174040" y="289548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ogene to Quater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029560" y="342900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m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209680" y="34290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D33Merycoydodon"/>
          <p:cNvPicPr/>
          <p:nvPr/>
        </p:nvPicPr>
        <p:blipFill>
          <a:blip r:embed="rId3"/>
          <a:stretch/>
        </p:blipFill>
        <p:spPr>
          <a:xfrm>
            <a:off x="4114800" y="121932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181080" y="2362320"/>
            <a:ext cx="8897760" cy="394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"/>
          <p:cNvPicPr/>
          <p:nvPr/>
        </p:nvPicPr>
        <p:blipFill>
          <a:blip r:embed="rId2"/>
          <a:stretch/>
        </p:blipFill>
        <p:spPr>
          <a:xfrm>
            <a:off x="165240" y="2405160"/>
            <a:ext cx="8929440" cy="4081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426840" y="28954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ssic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1523880" y="457200"/>
            <a:ext cx="7161480" cy="31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Text Box 9"/>
          <p:cNvSpPr/>
          <p:nvPr/>
        </p:nvSpPr>
        <p:spPr>
          <a:xfrm>
            <a:off x="3429000" y="44197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ymnosperms, Cephalopods, Ar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05740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057400" y="23623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62520" y="38862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2057400" y="1295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429000" y="44197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H="1">
            <a:off x="6019920" y="1905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3" descr=""/>
          <p:cNvPicPr/>
          <p:nvPr/>
        </p:nvPicPr>
        <p:blipFill>
          <a:blip r:embed="rId1"/>
          <a:stretch/>
        </p:blipFill>
        <p:spPr>
          <a:xfrm>
            <a:off x="0" y="2427120"/>
            <a:ext cx="9144000" cy="4050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426840" y="28954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ssic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05740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962520" y="38862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429000" y="44197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ymnosperms, Cephalopods, Arthropods, Reptiles, Dinosa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429000" y="53341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nosaurs, Mam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429000" y="58672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276720" y="533520"/>
            <a:ext cx="5405400" cy="3316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Picture 12" descr="Triassic"/>
          <p:cNvPicPr/>
          <p:nvPr/>
        </p:nvPicPr>
        <p:blipFill>
          <a:blip r:embed="rId3"/>
          <a:stretch/>
        </p:blipFill>
        <p:spPr>
          <a:xfrm>
            <a:off x="106070400" y="106413480"/>
            <a:ext cx="3933720" cy="743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Triassic"/>
          <p:cNvPicPr/>
          <p:nvPr/>
        </p:nvPicPr>
        <p:blipFill>
          <a:blip r:embed="rId4"/>
          <a:stretch/>
        </p:blipFill>
        <p:spPr>
          <a:xfrm>
            <a:off x="106222680" y="106565760"/>
            <a:ext cx="3934080" cy="743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5"/>
          <a:stretch/>
        </p:blipFill>
        <p:spPr>
          <a:xfrm>
            <a:off x="0" y="0"/>
            <a:ext cx="3200400" cy="507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bbe0e3">
                <a:alpha val="50000"/>
              </a:srgbClr>
            </a:outerShdw>
          </a:effectLst>
        </p:spPr>
      </p:pic>
      <p:sp>
        <p:nvSpPr>
          <p:cNvPr id="128" name="Text Box 15"/>
          <p:cNvSpPr/>
          <p:nvPr/>
        </p:nvSpPr>
        <p:spPr>
          <a:xfrm>
            <a:off x="3429000" y="441972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ymnosperms, Cephalopods, Ar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4419720" y="190512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495288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 flipV="1">
            <a:off x="1143000" y="2895480"/>
            <a:ext cx="533520" cy="152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762120" y="327636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3915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83059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800600" y="26668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6019920" y="259092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914400" y="458640"/>
            <a:ext cx="7391520" cy="601200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5334120" y="2666880"/>
            <a:ext cx="0" cy="228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843440" y="4038480"/>
            <a:ext cx="0" cy="1752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48320" y="13716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105520" y="1371600"/>
            <a:ext cx="3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uring Understandi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rom GA DOE Framework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llions of different species of plants, animals and microorganisms that live on earth today are related by descent from common ancestors.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B5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uring Understandi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rom GA DOE Framework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eat diversity of organisms is the result of more than 3.5 billion years of evolution that has filled every available niche with life forms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5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uring Understandi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rom GA DOE Framework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classification systems are based upon biochemical and genetic evidence that indicates evolutionary relationships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3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uring Understandi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rom GA DOE Framework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 explains the number of different life forms we see, similarities in anatomy and chemistry and sequence of changes in fossils formed over more than a billion years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5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uring Understanding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rom GA DOE Framework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ecular evidence supports anatomical evidence from fossils about the sequence of descent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B5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184560" y="304920"/>
            <a:ext cx="2530440" cy="3141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311040"/>
            <a:ext cx="2530440" cy="3141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fo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80040" y="311040"/>
            <a:ext cx="2530440" cy="3141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nosau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TimeScaleMesozoic"/>
          <p:cNvPicPr/>
          <p:nvPr/>
        </p:nvPicPr>
        <p:blipFill>
          <a:blip r:embed="rId1"/>
          <a:stretch/>
        </p:blipFill>
        <p:spPr>
          <a:xfrm>
            <a:off x="3124080" y="2362320"/>
            <a:ext cx="2608560" cy="372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Picture 9" descr="TimeScaleCenozoic"/>
          <p:cNvPicPr/>
          <p:nvPr/>
        </p:nvPicPr>
        <p:blipFill>
          <a:blip r:embed="rId2"/>
          <a:stretch/>
        </p:blipFill>
        <p:spPr>
          <a:xfrm>
            <a:off x="6477120" y="2438280"/>
            <a:ext cx="2311200" cy="1866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Picture 10" descr="TimeScalePaleozoic"/>
          <p:cNvPicPr/>
          <p:nvPr/>
        </p:nvPicPr>
        <p:blipFill>
          <a:blip r:embed="rId3"/>
          <a:stretch/>
        </p:blipFill>
        <p:spPr>
          <a:xfrm>
            <a:off x="304920" y="152280"/>
            <a:ext cx="2457360" cy="605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6" descr="QuestionsSheet"/>
          <p:cNvPicPr/>
          <p:nvPr/>
        </p:nvPicPr>
        <p:blipFill>
          <a:blip r:embed="rId1"/>
          <a:stretch/>
        </p:blipFill>
        <p:spPr>
          <a:xfrm>
            <a:off x="152280" y="304920"/>
            <a:ext cx="7448760" cy="35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58680"/>
            <a:ext cx="7696440" cy="703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D33Merycoydodon"/>
          <p:cNvPicPr/>
          <p:nvPr/>
        </p:nvPicPr>
        <p:blipFill>
          <a:blip r:embed="rId3"/>
          <a:stretch/>
        </p:blipFill>
        <p:spPr>
          <a:xfrm>
            <a:off x="4114800" y="1219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"/>
          <p:cNvPicPr/>
          <p:nvPr/>
        </p:nvPicPr>
        <p:blipFill>
          <a:blip r:embed="rId4"/>
          <a:stretch/>
        </p:blipFill>
        <p:spPr>
          <a:xfrm>
            <a:off x="4038480" y="657360"/>
            <a:ext cx="487692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Text Box 9"/>
          <p:cNvSpPr/>
          <p:nvPr/>
        </p:nvSpPr>
        <p:spPr>
          <a:xfrm>
            <a:off x="1590480" y="1143000"/>
            <a:ext cx="222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ycoydodon culbert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600200" y="15238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leogene to Neo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599120" y="190512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Mamm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600200" y="2209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assic to Quater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07320" y="2286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Withersp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658680" y="228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625400" y="838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4191120" y="246708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6858000" y="24670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410080" y="2009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248520" y="22096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9:07:13Z</dcterms:created>
  <dc:creator>DCSS</dc:creator>
  <dc:description/>
  <dc:language>en-US</dc:language>
  <cp:lastModifiedBy>e19975466</cp:lastModifiedBy>
  <dcterms:modified xsi:type="dcterms:W3CDTF">2011-08-26T14:40:56Z</dcterms:modified>
  <cp:revision>30</cp:revision>
  <dc:subject/>
  <dc:title>Slide 1</dc:title>
</cp:coreProperties>
</file>