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2E7-A38F-421D-AFAB-1E34D622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2D8-D749-442F-A01B-3A0460BE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C97-9AB1-44DF-A4E4-0E00EE5A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5C5-9955-4FB8-A3B9-3FA7417D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BA3-F9DB-4EF3-BDCA-072E2656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C14-F0A8-4AD7-9BCC-EDCEE68D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3DD-731E-4ED3-BC2B-296C092E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A31-A1BA-4562-9B33-DC6ED3CA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9E0-D6E6-4645-80C4-7BF6D9AA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285-85AF-4865-A771-461D2DF8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1E0-C503-470E-A20A-06AC217B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777-5520-4B5F-A21A-E18A1E71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84B3-C41B-449F-8DED-FCB512738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4265640" y="-19080"/>
            <a:ext cx="4444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6"/>
          <p:cNvGrpSpPr/>
          <p:nvPr/>
        </p:nvGrpSpPr>
        <p:grpSpPr>
          <a:xfrm>
            <a:off x="6550200" y="522360"/>
            <a:ext cx="1861560" cy="609480"/>
            <a:chOff x="6550200" y="522360"/>
            <a:chExt cx="1861560" cy="609480"/>
          </a:xfrm>
        </p:grpSpPr>
        <p:sp>
          <p:nvSpPr>
            <p:cNvPr id="43" name="Rectangle 5"/>
            <p:cNvSpPr/>
            <p:nvPr/>
          </p:nvSpPr>
          <p:spPr>
            <a:xfrm>
              <a:off x="6579720" y="522360"/>
              <a:ext cx="1802160" cy="609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Box 4"/>
            <p:cNvSpPr/>
            <p:nvPr/>
          </p:nvSpPr>
          <p:spPr>
            <a:xfrm>
              <a:off x="6550200" y="562680"/>
              <a:ext cx="186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oles like bubbl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4427640" y="3568680"/>
            <a:ext cx="1839960" cy="609480"/>
            <a:chOff x="4427640" y="3568680"/>
            <a:chExt cx="1839960" cy="609480"/>
          </a:xfrm>
        </p:grpSpPr>
        <p:sp>
          <p:nvSpPr>
            <p:cNvPr id="46" name="Rectangle 9"/>
            <p:cNvSpPr/>
            <p:nvPr/>
          </p:nvSpPr>
          <p:spPr>
            <a:xfrm>
              <a:off x="4465440" y="3568680"/>
              <a:ext cx="1802160" cy="609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TextBox 10"/>
            <p:cNvSpPr/>
            <p:nvPr/>
          </p:nvSpPr>
          <p:spPr>
            <a:xfrm>
              <a:off x="4427640" y="3609000"/>
              <a:ext cx="183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de of glas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5"/>
          <p:cNvGrpSpPr/>
          <p:nvPr/>
        </p:nvGrpSpPr>
        <p:grpSpPr>
          <a:xfrm>
            <a:off x="4302000" y="1969920"/>
            <a:ext cx="2087640" cy="642600"/>
            <a:chOff x="4302000" y="1969920"/>
            <a:chExt cx="2087640" cy="642600"/>
          </a:xfrm>
        </p:grpSpPr>
        <p:sp>
          <p:nvSpPr>
            <p:cNvPr id="49" name="Rectangle 12"/>
            <p:cNvSpPr/>
            <p:nvPr/>
          </p:nvSpPr>
          <p:spPr>
            <a:xfrm>
              <a:off x="4354200" y="1979280"/>
              <a:ext cx="198144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13"/>
            <p:cNvSpPr/>
            <p:nvPr/>
          </p:nvSpPr>
          <p:spPr>
            <a:xfrm>
              <a:off x="4302000" y="196992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de of clay grains too small to s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6"/>
          <p:cNvGrpSpPr/>
          <p:nvPr/>
        </p:nvGrpSpPr>
        <p:grpSpPr>
          <a:xfrm>
            <a:off x="6541920" y="3559320"/>
            <a:ext cx="2087640" cy="642600"/>
            <a:chOff x="6541920" y="3559320"/>
            <a:chExt cx="2087640" cy="642600"/>
          </a:xfrm>
        </p:grpSpPr>
        <p:sp>
          <p:nvSpPr>
            <p:cNvPr id="52" name="Rectangle 17"/>
            <p:cNvSpPr/>
            <p:nvPr/>
          </p:nvSpPr>
          <p:spPr>
            <a:xfrm>
              <a:off x="6594120" y="3568680"/>
              <a:ext cx="1981440" cy="609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18"/>
            <p:cNvSpPr/>
            <p:nvPr/>
          </p:nvSpPr>
          <p:spPr>
            <a:xfrm>
              <a:off x="6541920" y="355932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tains crystal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f mineral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19"/>
          <p:cNvGrpSpPr/>
          <p:nvPr/>
        </p:nvGrpSpPr>
        <p:grpSpPr>
          <a:xfrm>
            <a:off x="4302000" y="515880"/>
            <a:ext cx="2087640" cy="642600"/>
            <a:chOff x="4302000" y="515880"/>
            <a:chExt cx="2087640" cy="642600"/>
          </a:xfrm>
        </p:grpSpPr>
        <p:sp>
          <p:nvSpPr>
            <p:cNvPr id="55" name="Rectangle 20"/>
            <p:cNvSpPr/>
            <p:nvPr/>
          </p:nvSpPr>
          <p:spPr>
            <a:xfrm>
              <a:off x="4354200" y="525240"/>
              <a:ext cx="198144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Box 21"/>
            <p:cNvSpPr/>
            <p:nvPr/>
          </p:nvSpPr>
          <p:spPr>
            <a:xfrm>
              <a:off x="4302000" y="51588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tains rounded pebbl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Group 22"/>
          <p:cNvGrpSpPr/>
          <p:nvPr/>
        </p:nvGrpSpPr>
        <p:grpSpPr>
          <a:xfrm>
            <a:off x="4322880" y="5486400"/>
            <a:ext cx="2087280" cy="642600"/>
            <a:chOff x="4322880" y="5486400"/>
            <a:chExt cx="2087280" cy="642600"/>
          </a:xfrm>
        </p:grpSpPr>
        <p:sp>
          <p:nvSpPr>
            <p:cNvPr id="58" name="Rectangle 23"/>
            <p:cNvSpPr/>
            <p:nvPr/>
          </p:nvSpPr>
          <p:spPr>
            <a:xfrm>
              <a:off x="4375080" y="5495760"/>
              <a:ext cx="198108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4322880" y="5486400"/>
              <a:ext cx="208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de of sand grains you can s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25"/>
          <p:cNvGrpSpPr/>
          <p:nvPr/>
        </p:nvGrpSpPr>
        <p:grpSpPr>
          <a:xfrm>
            <a:off x="6541920" y="2063880"/>
            <a:ext cx="2087640" cy="642600"/>
            <a:chOff x="6541920" y="2063880"/>
            <a:chExt cx="2087640" cy="642600"/>
          </a:xfrm>
        </p:grpSpPr>
        <p:sp>
          <p:nvSpPr>
            <p:cNvPr id="61" name="Rectangle 26"/>
            <p:cNvSpPr/>
            <p:nvPr/>
          </p:nvSpPr>
          <p:spPr>
            <a:xfrm>
              <a:off x="6594120" y="2073240"/>
              <a:ext cx="1981440" cy="60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27"/>
            <p:cNvSpPr/>
            <p:nvPr/>
          </p:nvSpPr>
          <p:spPr>
            <a:xfrm>
              <a:off x="6541920" y="206388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tains sharp rock frag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28"/>
          <p:cNvGrpSpPr/>
          <p:nvPr/>
        </p:nvGrpSpPr>
        <p:grpSpPr>
          <a:xfrm>
            <a:off x="6541920" y="5487840"/>
            <a:ext cx="2087640" cy="642600"/>
            <a:chOff x="6541920" y="5487840"/>
            <a:chExt cx="2087640" cy="642600"/>
          </a:xfrm>
        </p:grpSpPr>
        <p:sp>
          <p:nvSpPr>
            <p:cNvPr id="64" name="Rectangle 29"/>
            <p:cNvSpPr/>
            <p:nvPr/>
          </p:nvSpPr>
          <p:spPr>
            <a:xfrm>
              <a:off x="6594120" y="5497200"/>
              <a:ext cx="198144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0"/>
            <p:cNvSpPr/>
            <p:nvPr/>
          </p:nvSpPr>
          <p:spPr>
            <a:xfrm>
              <a:off x="6541920" y="548784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tains fossil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shells or crinoid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Rectangle 2"/>
          <p:cNvSpPr/>
          <p:nvPr/>
        </p:nvSpPr>
        <p:spPr>
          <a:xfrm>
            <a:off x="17640" y="68400"/>
            <a:ext cx="4190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cc33"/>
                </a:solidFill>
                <a:latin typeface="Calibri"/>
              </a:rPr>
              <a:t>Investigating Rock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762120"/>
            <a:ext cx="419112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6092"/>
                </a:solidFill>
                <a:latin typeface="Calibri"/>
                <a:ea typeface="Arial"/>
              </a:rPr>
              <a:t>Dr. Witherspoon</a:t>
            </a:r>
            <a:br>
              <a:rPr sz="3000"/>
            </a:br>
            <a:r>
              <a:rPr b="0" lang="en-US" sz="3000" spc="-1" strike="noStrike">
                <a:solidFill>
                  <a:srgbClr val="376092"/>
                </a:solidFill>
                <a:latin typeface="Calibri"/>
                <a:ea typeface="Arial"/>
              </a:rPr>
              <a:t>Geologist</a:t>
            </a:r>
            <a:br>
              <a:rPr sz="3000"/>
            </a:br>
            <a:r>
              <a:rPr b="0" lang="en-US" sz="3000" spc="-1" strike="noStrike">
                <a:solidFill>
                  <a:srgbClr val="376092"/>
                </a:solidFill>
                <a:latin typeface="Calibri"/>
                <a:ea typeface="Arial"/>
              </a:rPr>
              <a:t>Fernbank Science Center</a:t>
            </a:r>
            <a:br>
              <a:rPr sz="3000"/>
            </a:br>
            <a:r>
              <a:rPr b="0" lang="en-US" sz="3000" spc="-1" strike="noStrike">
                <a:solidFill>
                  <a:srgbClr val="376092"/>
                </a:solidFill>
                <a:latin typeface="Calibri"/>
                <a:ea typeface="Arial"/>
              </a:rPr>
              <a:t>DeKalb County Schoo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3"/>
          <p:cNvSpPr/>
          <p:nvPr/>
        </p:nvSpPr>
        <p:spPr>
          <a:xfrm>
            <a:off x="34920" y="2819520"/>
            <a:ext cx="415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6E5. Students will investigate the scientific view of how the earth’s surface is form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. Classify rocks by their process of form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. Describe processes that change rocks and the surface of the eart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4"/>
          <p:cNvSpPr/>
          <p:nvPr/>
        </p:nvSpPr>
        <p:spPr>
          <a:xfrm>
            <a:off x="34920" y="3733920"/>
            <a:ext cx="429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. Investigate the contribution of minerals to rock composition (hornblende, feldspar, quartz in #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55440" y="5486400"/>
            <a:ext cx="4135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gneo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sedimenta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984807"/>
                </a:solidFill>
                <a:latin typeface="Gill Sans MT Condensed"/>
              </a:rPr>
              <a:t>metamorph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34920" y="466236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quartz in #1 and #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389240" y="39600"/>
            <a:ext cx="7429320" cy="4181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290520" y="2590920"/>
            <a:ext cx="77328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20"/>
          <p:cNvGrpSpPr/>
          <p:nvPr/>
        </p:nvGrpSpPr>
        <p:grpSpPr>
          <a:xfrm>
            <a:off x="387720" y="457200"/>
            <a:ext cx="2256480" cy="762120"/>
            <a:chOff x="387720" y="457200"/>
            <a:chExt cx="2256480" cy="762120"/>
          </a:xfrm>
        </p:grpSpPr>
        <p:sp>
          <p:nvSpPr>
            <p:cNvPr id="75" name="TextBox 2"/>
            <p:cNvSpPr/>
            <p:nvPr/>
          </p:nvSpPr>
          <p:spPr>
            <a:xfrm>
              <a:off x="387720" y="457200"/>
              <a:ext cx="2256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dentify all rocks FIRS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Down Arrow 3"/>
            <p:cNvSpPr/>
            <p:nvPr/>
          </p:nvSpPr>
          <p:spPr>
            <a:xfrm>
              <a:off x="2209680" y="827280"/>
              <a:ext cx="304560" cy="392040"/>
            </a:xfrm>
            <a:prstGeom prst="downArrow">
              <a:avLst>
                <a:gd name="adj1" fmla="val 50000"/>
                <a:gd name="adj2" fmla="val 5002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1"/>
          <p:cNvGrpSpPr/>
          <p:nvPr/>
        </p:nvGrpSpPr>
        <p:grpSpPr>
          <a:xfrm>
            <a:off x="3210840" y="90360"/>
            <a:ext cx="2478960" cy="827280"/>
            <a:chOff x="3210840" y="90360"/>
            <a:chExt cx="2478960" cy="827280"/>
          </a:xfrm>
        </p:grpSpPr>
        <p:sp>
          <p:nvSpPr>
            <p:cNvPr id="78" name="TextBox 5"/>
            <p:cNvSpPr/>
            <p:nvPr/>
          </p:nvSpPr>
          <p:spPr>
            <a:xfrm>
              <a:off x="3210840" y="90360"/>
              <a:ext cx="2478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N try texture colum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Down Arrow 6"/>
            <p:cNvSpPr/>
            <p:nvPr/>
          </p:nvSpPr>
          <p:spPr>
            <a:xfrm>
              <a:off x="4354560" y="525600"/>
              <a:ext cx="304560" cy="392040"/>
            </a:xfrm>
            <a:prstGeom prst="downArrow">
              <a:avLst>
                <a:gd name="adj1" fmla="val 50000"/>
                <a:gd name="adj2" fmla="val 4997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Box 7"/>
          <p:cNvSpPr/>
          <p:nvPr/>
        </p:nvSpPr>
        <p:spPr>
          <a:xfrm>
            <a:off x="2217240" y="1585800"/>
            <a:ext cx="1037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lah bla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212560" y="2057400"/>
            <a:ext cx="111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yada y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oup 22"/>
          <p:cNvGrpSpPr/>
          <p:nvPr/>
        </p:nvGrpSpPr>
        <p:grpSpPr>
          <a:xfrm>
            <a:off x="290520" y="2361600"/>
            <a:ext cx="3595680" cy="1524600"/>
            <a:chOff x="290520" y="2361600"/>
            <a:chExt cx="3595680" cy="1524600"/>
          </a:xfrm>
        </p:grpSpPr>
        <p:sp>
          <p:nvSpPr>
            <p:cNvPr id="83" name="Oval 4"/>
            <p:cNvSpPr/>
            <p:nvPr/>
          </p:nvSpPr>
          <p:spPr>
            <a:xfrm>
              <a:off x="290520" y="3429000"/>
              <a:ext cx="9284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4" name="Straight Arrow Connector 10"/>
            <p:cNvCxnSpPr/>
            <p:nvPr/>
          </p:nvCxnSpPr>
          <p:spPr>
            <a:xfrm flipV="1">
              <a:off x="1218600" y="2361600"/>
              <a:ext cx="2667960" cy="12200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85" name="TextBox 13"/>
          <p:cNvSpPr/>
          <p:nvPr/>
        </p:nvSpPr>
        <p:spPr>
          <a:xfrm>
            <a:off x="3985920" y="2108160"/>
            <a:ext cx="81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bb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oup 23"/>
          <p:cNvGrpSpPr/>
          <p:nvPr/>
        </p:nvGrpSpPr>
        <p:grpSpPr>
          <a:xfrm>
            <a:off x="5222880" y="2475720"/>
            <a:ext cx="1863720" cy="1769400"/>
            <a:chOff x="5222880" y="2475720"/>
            <a:chExt cx="1863720" cy="1769400"/>
          </a:xfrm>
        </p:grpSpPr>
        <p:sp>
          <p:nvSpPr>
            <p:cNvPr id="87" name="Oval 14"/>
            <p:cNvSpPr/>
            <p:nvPr/>
          </p:nvSpPr>
          <p:spPr>
            <a:xfrm>
              <a:off x="5222880" y="3787920"/>
              <a:ext cx="14828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8" name="Straight Arrow Connector 15"/>
            <p:cNvCxnSpPr/>
            <p:nvPr/>
          </p:nvCxnSpPr>
          <p:spPr>
            <a:xfrm flipV="1">
              <a:off x="6130440" y="2475720"/>
              <a:ext cx="956520" cy="1312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89" name="TextBox 18"/>
          <p:cNvSpPr/>
          <p:nvPr/>
        </p:nvSpPr>
        <p:spPr>
          <a:xfrm>
            <a:off x="6412320" y="2075040"/>
            <a:ext cx="19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gneous (extrusiv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6"/>
          <p:cNvSpPr/>
          <p:nvPr/>
        </p:nvSpPr>
        <p:spPr>
          <a:xfrm>
            <a:off x="304920" y="4724280"/>
            <a:ext cx="928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28"/>
          <p:cNvGrpSpPr/>
          <p:nvPr/>
        </p:nvGrpSpPr>
        <p:grpSpPr>
          <a:xfrm>
            <a:off x="6194880" y="90360"/>
            <a:ext cx="2372400" cy="827280"/>
            <a:chOff x="6194880" y="90360"/>
            <a:chExt cx="2372400" cy="827280"/>
          </a:xfrm>
        </p:grpSpPr>
        <p:sp>
          <p:nvSpPr>
            <p:cNvPr id="92" name="TextBox 29"/>
            <p:cNvSpPr/>
            <p:nvPr/>
          </p:nvSpPr>
          <p:spPr>
            <a:xfrm>
              <a:off x="6194880" y="90360"/>
              <a:ext cx="2372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N do “how formed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Down Arrow 30"/>
            <p:cNvSpPr/>
            <p:nvPr/>
          </p:nvSpPr>
          <p:spPr>
            <a:xfrm>
              <a:off x="7338960" y="525600"/>
              <a:ext cx="304560" cy="392040"/>
            </a:xfrm>
            <a:prstGeom prst="downArrow">
              <a:avLst>
                <a:gd name="adj1" fmla="val 50000"/>
                <a:gd name="adj2" fmla="val 4995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2717640" y="1101600"/>
            <a:ext cx="3507120" cy="3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Does the rock have visible gr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089240" y="3016080"/>
            <a:ext cx="264636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Does the rock contain rounded pebb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74720" y="2330280"/>
            <a:ext cx="229248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Is the rock made of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003320" y="2816280"/>
            <a:ext cx="4046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746520" y="5064120"/>
            <a:ext cx="10382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80"/>
                </a:solidFill>
                <a:latin typeface="Arial Narrow"/>
                <a:ea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061040" y="5978520"/>
            <a:ext cx="9446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990000"/>
                </a:solidFill>
                <a:latin typeface="Arial Narrow"/>
                <a:ea typeface="Arial"/>
              </a:rPr>
              <a:t>Gran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89080" y="3444840"/>
            <a:ext cx="9442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6666"/>
                </a:solidFill>
                <a:latin typeface="Arial Narrow"/>
                <a:ea typeface="Arial"/>
              </a:rPr>
              <a:t>Obsi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317600" y="3962520"/>
            <a:ext cx="236052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Is the rock full of ho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32080" y="4527720"/>
            <a:ext cx="40464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689200" y="4527720"/>
            <a:ext cx="40500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451240" y="5207040"/>
            <a:ext cx="8078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9966cc"/>
                </a:solidFill>
                <a:latin typeface="Arial Narrow"/>
                <a:ea typeface="Arial"/>
              </a:rPr>
              <a:t>S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5575320" y="2027160"/>
            <a:ext cx="323676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Does the rock contain fragments of volcanic glass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480000" y="4029120"/>
            <a:ext cx="12146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3399ff"/>
                </a:solidFill>
                <a:latin typeface="Arial Narrow"/>
                <a:ea typeface="Arial"/>
              </a:rPr>
              <a:t>Conglome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56440" y="2941560"/>
            <a:ext cx="13478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6666"/>
                </a:solidFill>
                <a:latin typeface="Arial Narrow"/>
                <a:ea typeface="Arial"/>
              </a:rPr>
              <a:t>Volcanic Brec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1260360" y="5156280"/>
            <a:ext cx="80964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6666"/>
                </a:solidFill>
                <a:latin typeface="Arial Narrow"/>
                <a:ea typeface="Arial"/>
              </a:rPr>
              <a:t>Sco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18"/>
          <p:cNvSpPr/>
          <p:nvPr/>
        </p:nvSpPr>
        <p:spPr>
          <a:xfrm flipH="1">
            <a:off x="1974960" y="1398600"/>
            <a:ext cx="175248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19"/>
          <p:cNvSpPr/>
          <p:nvPr/>
        </p:nvSpPr>
        <p:spPr>
          <a:xfrm flipH="1">
            <a:off x="1345680" y="2530440"/>
            <a:ext cx="40500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203560" y="3056040"/>
            <a:ext cx="135000" cy="9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>
            <a:off x="774720" y="3044880"/>
            <a:ext cx="40464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 flipH="1">
            <a:off x="1751040" y="4227480"/>
            <a:ext cx="33480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>
            <a:off x="2603520" y="4227480"/>
            <a:ext cx="26820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1603440" y="4756320"/>
            <a:ext cx="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25"/>
          <p:cNvSpPr/>
          <p:nvPr/>
        </p:nvSpPr>
        <p:spPr>
          <a:xfrm>
            <a:off x="2860560" y="4756320"/>
            <a:ext cx="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2046240" y="2816280"/>
            <a:ext cx="40500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2270160" y="228600"/>
            <a:ext cx="4316400" cy="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Arial"/>
              </a:rPr>
              <a:t>Investigating Rocks</a:t>
            </a:r>
            <a:br>
              <a:rPr sz="2800"/>
            </a:b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cation Flowch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5105520" y="5978520"/>
            <a:ext cx="12142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3399ff"/>
                </a:solidFill>
                <a:latin typeface="Arial Narrow"/>
                <a:ea typeface="Arial"/>
              </a:rPr>
              <a:t>Sand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30"/>
          <p:cNvSpPr/>
          <p:nvPr/>
        </p:nvSpPr>
        <p:spPr>
          <a:xfrm>
            <a:off x="1917720" y="2541600"/>
            <a:ext cx="33660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4946760" y="1398600"/>
            <a:ext cx="154296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5403960" y="1569960"/>
            <a:ext cx="4046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33"/>
          <p:cNvSpPr/>
          <p:nvPr/>
        </p:nvSpPr>
        <p:spPr>
          <a:xfrm flipH="1">
            <a:off x="5232240" y="2255760"/>
            <a:ext cx="134784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6718320" y="2255760"/>
            <a:ext cx="101124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5703840" y="2489040"/>
            <a:ext cx="40500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7004160" y="2489040"/>
            <a:ext cx="4046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5403960" y="3227400"/>
            <a:ext cx="155088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8"/>
          <p:cNvSpPr/>
          <p:nvPr/>
        </p:nvSpPr>
        <p:spPr>
          <a:xfrm flipH="1">
            <a:off x="4775040" y="3227400"/>
            <a:ext cx="27000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9"/>
          <p:cNvSpPr/>
          <p:nvPr/>
        </p:nvSpPr>
        <p:spPr>
          <a:xfrm>
            <a:off x="5861160" y="3456000"/>
            <a:ext cx="4046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4703760" y="3456000"/>
            <a:ext cx="4046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871720" y="1676520"/>
            <a:ext cx="40500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42"/>
          <p:cNvSpPr/>
          <p:nvPr/>
        </p:nvSpPr>
        <p:spPr>
          <a:xfrm flipH="1">
            <a:off x="5689440" y="5170320"/>
            <a:ext cx="54000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43"/>
          <p:cNvSpPr/>
          <p:nvPr/>
        </p:nvSpPr>
        <p:spPr>
          <a:xfrm>
            <a:off x="6832440" y="5170320"/>
            <a:ext cx="67500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44"/>
          <p:cNvSpPr/>
          <p:nvPr/>
        </p:nvSpPr>
        <p:spPr>
          <a:xfrm>
            <a:off x="5118120" y="4199040"/>
            <a:ext cx="161748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45"/>
          <p:cNvSpPr/>
          <p:nvPr/>
        </p:nvSpPr>
        <p:spPr>
          <a:xfrm flipH="1">
            <a:off x="4203720" y="4199040"/>
            <a:ext cx="40464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4246560" y="4427640"/>
            <a:ext cx="40464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5618160" y="4427640"/>
            <a:ext cx="40464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5803920" y="5353200"/>
            <a:ext cx="40464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6924600" y="5342040"/>
            <a:ext cx="40500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5205240" y="4984920"/>
            <a:ext cx="32371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Do you see crystals of different minerals</a:t>
            </a: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632040" y="3913200"/>
            <a:ext cx="29671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Do you see f</a:t>
            </a: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ossils?</a:t>
            </a:r>
            <a:br>
              <a:rPr sz="1200"/>
            </a:br>
            <a:r>
              <a:rPr b="0" sz="1200" spc="-1" strike="noStrike">
                <a:solidFill>
                  <a:srgbClr val="000000"/>
                </a:solidFill>
                <a:latin typeface="Arial Narrow"/>
                <a:ea typeface="Arial"/>
              </a:rPr>
              <a:t>(shells, circle shapes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3093"/>
          <p:cNvSpPr/>
          <p:nvPr/>
        </p:nvSpPr>
        <p:spPr>
          <a:xfrm>
            <a:off x="5413320" y="1809720"/>
            <a:ext cx="385920" cy="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7"/>
          <p:cNvSpPr/>
          <p:nvPr/>
        </p:nvSpPr>
        <p:spPr>
          <a:xfrm>
            <a:off x="5605560" y="2711520"/>
            <a:ext cx="385560" cy="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58"/>
          <p:cNvSpPr/>
          <p:nvPr/>
        </p:nvSpPr>
        <p:spPr>
          <a:xfrm>
            <a:off x="5913360" y="3695760"/>
            <a:ext cx="384120" cy="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ight Arrow 3097"/>
          <p:cNvSpPr/>
          <p:nvPr/>
        </p:nvSpPr>
        <p:spPr>
          <a:xfrm flipH="1">
            <a:off x="7616880" y="4029120"/>
            <a:ext cx="225360" cy="1983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1:58:44Z</dcterms:created>
  <dc:creator>William Witherspoon</dc:creator>
  <dc:description/>
  <dc:language>en-US</dc:language>
  <cp:lastModifiedBy>William Witherspoon</cp:lastModifiedBy>
  <dcterms:modified xsi:type="dcterms:W3CDTF">2013-11-15T16:16:06Z</dcterms:modified>
  <cp:revision>13</cp:revision>
  <dc:subject/>
  <dc:title>PowerPoint Presentation</dc:title>
</cp:coreProperties>
</file>