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0F8-47A1-421F-8988-EE3FA7EA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539-839A-4A03-8A49-1348C2BF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024-3B33-48E1-8441-9ED9B84F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CE8-C798-461C-A18E-14650A61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E82-0379-47E1-9436-5717E1AA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28F-5192-4C0E-8CE1-5A5F460A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173-6835-4100-B907-D57FD570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BAC-620F-41D0-A144-2FF966E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A8F-A3F3-461D-8826-57539586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F16-529F-4D3E-B2FD-B133708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3B9-CBBB-491E-A639-C5747B2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0C9-56BC-4DDB-A6EF-D8EE558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6FE-A9D8-4309-9AC5-33E90D17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14760" y="3400560"/>
            <a:ext cx="114480" cy="56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Local Rocks and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. Witherspo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olog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rnbank Science Center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Kalb Count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7339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3E1. Students will investigate the physical attributes of rocks and soil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 between a rock and a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the physical attributes of rocks and minerals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hape, color, textu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458200" cy="523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1828800"/>
            <a:ext cx="4724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Job: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953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Job: Small Sack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828800"/>
            <a:ext cx="4953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Job: Big Bag B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51240" y="127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5003640" cy="838080"/>
          </a:xfrm>
          <a:custGeom>
            <a:avLst/>
            <a:gdLst/>
            <a:ahLst/>
            <a:rect l="l" t="t" r="r" b="b"/>
            <a:pathLst>
              <a:path w="2624" h="580">
                <a:moveTo>
                  <a:pt x="764" y="580"/>
                </a:moveTo>
                <a:cubicBezTo>
                  <a:pt x="726" y="573"/>
                  <a:pt x="687" y="572"/>
                  <a:pt x="650" y="563"/>
                </a:cubicBezTo>
                <a:cubicBezTo>
                  <a:pt x="606" y="552"/>
                  <a:pt x="570" y="520"/>
                  <a:pt x="527" y="510"/>
                </a:cubicBezTo>
                <a:cubicBezTo>
                  <a:pt x="402" y="480"/>
                  <a:pt x="276" y="454"/>
                  <a:pt x="149" y="440"/>
                </a:cubicBezTo>
                <a:cubicBezTo>
                  <a:pt x="59" y="409"/>
                  <a:pt x="20" y="289"/>
                  <a:pt x="0" y="202"/>
                </a:cubicBezTo>
                <a:cubicBezTo>
                  <a:pt x="22" y="130"/>
                  <a:pt x="81" y="129"/>
                  <a:pt x="149" y="114"/>
                </a:cubicBezTo>
                <a:cubicBezTo>
                  <a:pt x="319" y="75"/>
                  <a:pt x="493" y="54"/>
                  <a:pt x="668" y="44"/>
                </a:cubicBezTo>
                <a:cubicBezTo>
                  <a:pt x="729" y="40"/>
                  <a:pt x="790" y="38"/>
                  <a:pt x="852" y="35"/>
                </a:cubicBezTo>
                <a:cubicBezTo>
                  <a:pt x="937" y="25"/>
                  <a:pt x="1021" y="12"/>
                  <a:pt x="1107" y="0"/>
                </a:cubicBezTo>
                <a:cubicBezTo>
                  <a:pt x="1322" y="5"/>
                  <a:pt x="1519" y="16"/>
                  <a:pt x="1731" y="35"/>
                </a:cubicBezTo>
                <a:cubicBezTo>
                  <a:pt x="1825" y="59"/>
                  <a:pt x="1933" y="67"/>
                  <a:pt x="2030" y="79"/>
                </a:cubicBezTo>
                <a:cubicBezTo>
                  <a:pt x="2107" y="101"/>
                  <a:pt x="2178" y="129"/>
                  <a:pt x="2259" y="141"/>
                </a:cubicBezTo>
                <a:cubicBezTo>
                  <a:pt x="2378" y="174"/>
                  <a:pt x="2498" y="209"/>
                  <a:pt x="2619" y="237"/>
                </a:cubicBezTo>
                <a:cubicBezTo>
                  <a:pt x="2614" y="272"/>
                  <a:pt x="2624" y="315"/>
                  <a:pt x="2602" y="343"/>
                </a:cubicBezTo>
                <a:cubicBezTo>
                  <a:pt x="2585" y="363"/>
                  <a:pt x="2526" y="378"/>
                  <a:pt x="2505" y="387"/>
                </a:cubicBezTo>
                <a:cubicBezTo>
                  <a:pt x="2398" y="427"/>
                  <a:pt x="2300" y="441"/>
                  <a:pt x="2188" y="448"/>
                </a:cubicBezTo>
                <a:cubicBezTo>
                  <a:pt x="2032" y="456"/>
                  <a:pt x="1876" y="457"/>
                  <a:pt x="1722" y="475"/>
                </a:cubicBezTo>
                <a:cubicBezTo>
                  <a:pt x="1563" y="492"/>
                  <a:pt x="1407" y="539"/>
                  <a:pt x="1248" y="545"/>
                </a:cubicBezTo>
                <a:cubicBezTo>
                  <a:pt x="688" y="563"/>
                  <a:pt x="884" y="563"/>
                  <a:pt x="659" y="563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69840"/>
            <a:ext cx="8637480" cy="678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2320" y="990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98108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to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990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990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2767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stri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800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7150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ttery (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5715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or silv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73840" y="9907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9920" y="990720"/>
            <a:ext cx="330516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37200" y="990720"/>
            <a:ext cx="3363840" cy="4190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073920" y="990720"/>
            <a:ext cx="329868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6019920" y="990720"/>
            <a:ext cx="342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048120" cy="2543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3149640" cy="260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257040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828800" y="990720"/>
            <a:ext cx="2728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5:01:54Z</dcterms:created>
  <dc:creator>e19975466</dc:creator>
  <dc:description/>
  <dc:language>en-US</dc:language>
  <cp:lastModifiedBy>Bill Witherspoon</cp:lastModifiedBy>
  <dcterms:modified xsi:type="dcterms:W3CDTF">2012-02-06T19:26:45Z</dcterms:modified>
  <cp:revision>12</cp:revision>
  <dc:subject/>
  <dc:title>Slide 1</dc:title>
</cp:coreProperties>
</file>